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534443B-8BFC-4748-8178-BB5B251E624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A2FBD7F-1153-4D68-AF52-51DC74EFF8C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7A423-9912-405D-9C87-1F8E963DD6A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7940C36-2668-45E1-A3F8-8F5C8FA3CF0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BCCD1-DE5B-4DA1-BEC3-024DFA9F76C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DDE2169-6945-4CC4-AE7A-E0CA9414EA9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8AA71-E00D-49DC-B71E-307DD8BB1FF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4D9FDC5-6EA2-43FC-8310-2E5CF2AFA67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356DC-1F7E-4D23-9EAB-FDCE94BBCE5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1046E6E-FE10-428F-BFEA-3447E423E92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2CC65-55BE-4DA1-942A-3BD283532C0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E1D1558-ED5C-4C01-A5E5-347736D29E0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85551-1769-4454-AE40-F57DED0128F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B737ED1-A09E-4602-A62A-CF1E28B7CEA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340C0-D734-4713-AC7F-0F8194267CA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B3645E4-6C9C-43CD-98A3-99F60A4CA4D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72755-0149-4359-9B8A-53F69D7778B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627E45F-7A53-4164-A3F6-95885E75188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584A0-5A90-4BC3-8ABD-ABCD093F509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6E2B1C0-F187-490E-8F70-24660E0D73B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66639-3CAF-46F7-B9F3-402284EAC6B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C14D2B4-D1BF-4C87-BE51-9427CA55204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CB26E-3FC9-4EBF-B214-FF0936EAC9B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50A2145-8D9B-4047-ABAE-3A26838648D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9F0A5-6E35-4543-A90D-FBB21F6C7CB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E3E4868-78AB-4E8E-BA0F-C2DDEF2A35A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A2646-C528-47E7-9C29-56769E2141F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426679C-1C26-439F-A757-AE2B2193588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EA98F-05C6-42B9-B9A3-2B3D45AA36E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FD1FED6-087F-46BA-A69E-9645A7211B7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0A2D1-523D-40AB-B432-EBBE3C21263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6CE81AA-B642-4737-BB9F-BEE3D0EE272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7B50E-BF13-45EC-9BEF-670ABEBC492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F29BA05-897D-40D1-8C33-5C1F8B7D6C3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F1AA1-6B20-4FBC-82FE-BB9F307F8E0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68C3FEF-9E5B-4214-9FBB-E6AA25BA6E2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D6B0A-5F39-40CC-81D3-C3F74F895C0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BA0A2C8-AD02-42F7-9E83-F2882766439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B697B-C613-43BD-A014-26246D870B7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FDCAFD5-F527-43BC-97CE-275916E05B0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755A9-99B9-448C-954B-87C24703FE2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5E387DB-3989-4B0B-ACA1-407F319B389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B46B9-D54F-4D00-808D-55A0072E43A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D42E298-3441-473F-99B9-CDAB2DA6C2D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93D71-AF80-4A26-837B-8A6CF371183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AAE6-CDCD-4BC8-A7C3-8560FF3FC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EBF6-E591-4364-934D-10B75C26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36EB-BECE-4498-865B-83180804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2360-B7B0-4318-99A8-07714D192B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30A9-4A5C-4EA4-B24B-7C846432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1D357-380F-4D48-B7A9-5341F4DA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21C0-E134-460E-B82F-B76E65A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07DB-D419-4478-BAF7-659352D7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5FA3-D37C-4A1A-84A8-E5D5F01A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46B5-10C5-4B95-BF9A-9665FC27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2D4F-6A65-4590-8548-80FAB8D4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F190-4263-42CD-97E5-86A89F6B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62B7F-3029-4B84-93F3-03700492477B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763640" y="1636560"/>
            <a:ext cx="5715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1e9d1e"/>
                </a:solidFill>
                <a:latin typeface="Arial"/>
                <a:ea typeface="Arial"/>
              </a:rPr>
              <a:t>Câmara Temática de Inovação Tecn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6"/>
          <p:cNvSpPr/>
          <p:nvPr/>
        </p:nvSpPr>
        <p:spPr>
          <a:xfrm>
            <a:off x="2411280" y="444492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e9d1e"/>
                </a:solidFill>
                <a:latin typeface="Arial"/>
                <a:ea typeface="Arial"/>
              </a:rPr>
              <a:t>Brasília, 28 de fevereiro de 201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00000" y="11318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Questionário enviado aos representantes do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A5277-F93C-4BB2-AA97-8D440D92DF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CaixaDeTexto 14"/>
          <p:cNvSpPr/>
          <p:nvPr/>
        </p:nvSpPr>
        <p:spPr>
          <a:xfrm>
            <a:off x="468360" y="1924200"/>
            <a:ext cx="820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aixaDeTexto 15"/>
          <p:cNvSpPr/>
          <p:nvPr/>
        </p:nvSpPr>
        <p:spPr>
          <a:xfrm>
            <a:off x="468360" y="175896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7878de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Solicitação: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relação dos serviços/aplicativos disponíveis ou em desenvolvimento, com breve descr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nome comercial do aplicativo/serviço e/ou desenvolvim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classificação como serviço e/ou aplicativ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ões técnicas: estruturas de desenvolvimento e funcionamento, incluindo informações sobre a taxa de bits mínima e a ideal além de limitações ou restrições para funcionamento do serviço/aplicativo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ão para o usuár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faixa de funcionamento: se serviço/aplicativo está disponível para todas as faixas de serviço de radiodifusão sonora (FM, OM, OC, O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3748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simples: se o aplicativo/serviço está vinculado a uma programação de áudio e, nesse caso, se está compartilhando com o áudio um único serviç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composta: se o aplicativo/serviço pode ser vinculado simultanea-mente a todas as programações de áudio permitidas pelo sistema, ocupando uma única taxa de dado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lação de compromisso entre o áudio digital e os aplicativos/serviços (qualidade de áudio x aplicativo/serviç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localização do serviço: descrever em que portadoras OFDM estão localizados os serviços/aplicativos no siste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middleware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: se há a necessidade para uso do serviço/aplic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492C3-4CBD-40F8-A405-9C53354EC0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68360" y="12430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tor: características básicas para acessar o aplicativo/serviço (ex: formato da tela, processador mais rápido, et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transmissor: serviço/aplicativo contido no transmissor digital ou há necessidade de aquisição de um equipamento ou software específic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ção: na recepção, o conteúdo transmitido  pode ser condicionado a um usuário específico por meio de um 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diciona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Qual a concepção de serviço e aplicativ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cerca da relação de compromisso entre o quantitativo de serviços/aplicativos e 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74B2B-11E6-4A0A-BD70-BDA92644F8D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28800" y="2239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plicativo: transmissão junto do conteúdo de um serviço/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: ocupa um canal específico, mesmo que seja acessado por meio de um outro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00000" y="1320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Aplicativo x Serviç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38689-B266-4B22-A6E8-9611EB67B05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900000" y="11318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32B51-47E1-48CE-AD9A-0CF6F292A9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1627200"/>
          <a:ext cx="8064360" cy="2906640"/>
        </p:xfrm>
        <a:graphic>
          <a:graphicData uri="http://schemas.openxmlformats.org/drawingml/2006/table">
            <a:tbl>
              <a:tblPr/>
              <a:tblGrid>
                <a:gridCol w="1079280"/>
                <a:gridCol w="2305080"/>
                <a:gridCol w="2951280"/>
                <a:gridCol w="1076400"/>
                <a:gridCol w="652320"/>
              </a:tblGrid>
              <a:tr h="7556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Service Data (PSD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ítulo da música e artista/ Título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st Experie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 de Disco/ Logomarca da Emissora/ Imagem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e Ale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igital de Alerta de Emergência e Informa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g Tagg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ção ao Comércio de Músi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Traff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ões de Tráfego e Map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- 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 and Information Servi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e Texto/ Notícias/ Clima/ Esport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Program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de emissoras de uma determinada á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 S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tividade de dados – serviço para celulares com rádio digital integra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70CC0-3E50-486F-97F3-988B741D35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11280" y="1492200"/>
          <a:ext cx="7993080" cy="3274920"/>
        </p:xfrm>
        <a:graphic>
          <a:graphicData uri="http://schemas.openxmlformats.org/drawingml/2006/table">
            <a:tbl>
              <a:tblPr/>
              <a:tblGrid>
                <a:gridCol w="936360"/>
                <a:gridCol w="2448000"/>
                <a:gridCol w="2448000"/>
                <a:gridCol w="1008000"/>
                <a:gridCol w="1152720"/>
              </a:tblGrid>
              <a:tr h="4320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BS (Emergency Warning Broadcast System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de Transmissão de Aviso de Emergênc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sagens de Texto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com rolage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(DRM30) / 0,32 (DRM+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avançado com canal de retor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 -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desho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ns/animaçõ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G - Electronic Programme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a de Programação Eletrônic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eem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deo de baixa resolu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C (Canal de Mensagem de Tráfego)/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EG (Transport Protocol Experts Group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ão de tráfe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missão Transparente de Arquivo MOT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OT: Multimedia Object Transfer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colo para transmissão de arquivos/estruturas de diretórios,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i Broadcast Website ("Website de Emissora"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7"/>
          <p:cNvSpPr/>
          <p:nvPr/>
        </p:nvSpPr>
        <p:spPr>
          <a:xfrm>
            <a:off x="900000" y="9889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28800" y="1878120"/>
            <a:ext cx="73580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Levantar a capacidade de bits</a:t>
            </a:r>
            <a:r>
              <a:rPr b="0" lang="pt-BR" sz="1800" spc="-1" strike="noStrike">
                <a:solidFill>
                  <a:srgbClr val="7878de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úteis dos sistemas, de acordo com a largura de banda do canal e a configuração utili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- capacidade de um canal diretamente relacionado à largura de banda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do canal (B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Serviço     AM: B = 20kHz (HD)/1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FM: B = 200kHz (HD)/10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Metodologia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5D7D0-C605-45A8-B218-75EFA2A05DB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have esquerda 12"/>
          <p:cNvSpPr/>
          <p:nvPr/>
        </p:nvSpPr>
        <p:spPr>
          <a:xfrm>
            <a:off x="2411280" y="3652920"/>
            <a:ext cx="46080" cy="6476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647640"/>
              <a:gd name="textAreaBottom" fmla="*/ 64656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7"/>
                </a:cubicBezTo>
                <a:lnTo>
                  <a:pt x="10800" y="10673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4"/>
                  <a:pt x="10800" y="10927"/>
                </a:cubicBezTo>
                <a:lnTo>
                  <a:pt x="10800" y="21473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332000" y="915840"/>
            <a:ext cx="6243480" cy="4029120"/>
          </a:xfrm>
          <a:prstGeom prst="rect">
            <a:avLst/>
          </a:prstGeom>
          <a:ln w="0">
            <a:noFill/>
          </a:ln>
        </p:spPr>
      </p:pic>
      <p:sp>
        <p:nvSpPr>
          <p:cNvPr id="2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35D72-EFB7-4025-AE18-39E387B827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447920" y="923760"/>
            <a:ext cx="6248160" cy="4024440"/>
          </a:xfrm>
          <a:prstGeom prst="rect">
            <a:avLst/>
          </a:prstGeom>
          <a:ln w="0">
            <a:noFill/>
          </a:ln>
        </p:spPr>
      </p:pic>
      <p:sp>
        <p:nvSpPr>
          <p:cNvPr id="21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33A57-06B4-4713-8798-9AB87BC3E2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4480" y="988920"/>
            <a:ext cx="5853240" cy="3853080"/>
          </a:xfrm>
          <a:prstGeom prst="rect">
            <a:avLst/>
          </a:prstGeom>
          <a:ln w="0">
            <a:noFill/>
          </a:ln>
        </p:spPr>
      </p:pic>
      <p:sp>
        <p:nvSpPr>
          <p:cNvPr id="22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01560-3903-41D6-BD8E-7D7F7EDC7A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28800" y="192420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Obje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Histórico e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Planej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Descrição dos Servi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todolo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óximos Pas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D56FF-9EE6-4DEB-9F7A-F5F9262D06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A9984-4A11-4830-8EB7-99816DDA91D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736640" y="988920"/>
            <a:ext cx="585972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9031A-C20D-403B-BEE8-F10098DDD5D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tângulo 9"/>
          <p:cNvSpPr/>
          <p:nvPr/>
        </p:nvSpPr>
        <p:spPr>
          <a:xfrm>
            <a:off x="923760" y="12049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óximos pas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958680" y="1878120"/>
            <a:ext cx="7358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lidade do áudio (quantidade de bits necessários; codificador de fonte) e a disponibilidade para os diferentes serviços (AM e F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ntidade de serviços possíveis para cada serviço (simular casos prátic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3366ff"/>
                </a:solidFill>
                <a:latin typeface="Calibri"/>
              </a:rPr>
              <a:t>Middlewares -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ocessar e complementar a informaç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Levantamento sobre a convergência do rádio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aracterísticas mínimas para os receptor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62AD2-1021-43C9-B529-8FB12E707CA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00000" y="133344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Equipe do Rádio Digital – CG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Elza Maria Fernandes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elza.fernandes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Flávio Ferreira Lima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flavio.ferreira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Letícia Ribeiro Cardoso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leticia.cardoso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Gilvandson Costa Cavalcante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gilvandson.cavalcante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28800" y="192420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aprovada pelo CCRD na 1ª Reunião </a:t>
            </a:r>
            <a:r>
              <a:rPr b="1" lang="pt-BR" sz="1600" spc="-1" strike="noStrike">
                <a:solidFill>
                  <a:srgbClr val="2966ba"/>
                </a:solidFill>
                <a:latin typeface="Calibri"/>
              </a:rPr>
              <a:t>(23/10/201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EE163-3019-415D-AD8A-E8278EEA2AC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28800" y="1924200"/>
            <a:ext cx="7358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ádio Digital – oport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2832C-0510-4E31-884C-BC590BA73D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030320" y="2023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lhorar o áudio – sufici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Agregar serviços de dados – diferen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onvergência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Exclusão social ou oportunidade de inclusã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28800" y="171612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28/11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os assuntos a serem abord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Indicação de representantes (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MARC, ABRA/MACKENZIE, ABERT, ANATEL, ELETROS (PIONEER), MinC, ABIRD, MDIC, ABRAÇO NACIONAL e padrões de rádio digital testad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14/12/20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e funcionamento da Câm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DE97C-763B-471E-BB0F-12A0F48CB3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00000" y="1685880"/>
            <a:ext cx="73580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hecimento dos serviços e aplicativos existentes para cada sistema bem como o desenvolvimento de inovaç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2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ção das condições técnicas para a convergência do serviço de Televisão Digital com cada um dos sistemas de Rádio Digital em anál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98560" y="11271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lanej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66D41-5631-403F-BA12-73EACCE1025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26920" y="1492200"/>
            <a:ext cx="7358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oportunidades criadas a partir da implantação do Rádio Digital, além da melhoria n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r o que é serviço e apl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Levantar os serviços e os aplicativos disponíveis para cada padr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serviços/aplicativos estão ligados a programações, e se for este o caso, se os mesmos estão disponíveis para todas as programações com as mesmas característ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55640" y="98892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CE2D7-FA6C-4883-BD3C-CAE44B53D0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00000" y="149220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 (continuação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ondições necessárias para acesso aos serviços e aplicativos (do ponto de vista do radiodifusor e do ouvint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aracterísticas dos </a:t>
            </a:r>
            <a:r>
              <a:rPr b="0" i="1" lang="pt-BR" sz="1800" spc="-1" strike="noStrike">
                <a:solidFill>
                  <a:srgbClr val="2966ba"/>
                </a:solidFill>
                <a:latin typeface="Calibri"/>
              </a:rPr>
              <a:t>middlewares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usados por cada sistema, a possibilidade de substituí-los pelo Ginga, ou mesmo acrescentá-lo, e as condições estabelecidas para essa inclusão/substitui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dicar os serviços básicos desejáveis em uma futura implantação do rádio digital e que características técnicas os receptores deveriam ter para acessá-l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CCB11-F40E-42CE-834A-2877E8D72D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82720" y="1131840"/>
            <a:ext cx="61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402FC-0DF2-48B2-B328-DE0A1FFAFC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tângulo 1"/>
          <p:cNvSpPr/>
          <p:nvPr/>
        </p:nvSpPr>
        <p:spPr>
          <a:xfrm>
            <a:off x="934920" y="1727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 possibilidade de convergência com a TV Digital e as condições para que isso oco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pecificar quais as condições para haver a convergência do sistema de rádio digital com o padrão de TV Digital adotado pelo Bras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terminar as modificações necessárias para cada um dos padr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as modificações identificadas são passíveis de atendimento e quais as condições estabelecidas por cada padrão para a sua realiza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Elza Maria Del Negro B.Fernandes</cp:lastModifiedBy>
  <cp:lastPrinted>2013-02-28T16:29:20Z</cp:lastPrinted>
  <dcterms:modified xsi:type="dcterms:W3CDTF">2013-02-28T16:47:33Z</dcterms:modified>
  <cp:revision>227</cp:revision>
  <dc:subject/>
  <dc:title>Slide 1</dc:title>
</cp:coreProperties>
</file>