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5145088"/>
  <p:notesSz cx="68072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07240" cy="9906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906120"/>
              <a:gd name="textAreaBottom" fmla="*/ 9905760 h 9906120"/>
            </a:gdLst>
            <a:ahLst/>
            <a:rect l="textAreaLeft" t="textAreaTop" r="textAreaRight" b="textAreaBottom"/>
            <a:pathLst>
              <a:path w="21600" h="31433">
                <a:moveTo>
                  <a:pt x="5" y="0"/>
                </a:moveTo>
                <a:arcTo wR="5" hR="5" stAng="16200000" swAng="-5400000"/>
                <a:lnTo>
                  <a:pt x="0" y="31428"/>
                </a:lnTo>
                <a:arcTo wR="5" hR="5" stAng="10800000" swAng="-5400000"/>
                <a:lnTo>
                  <a:pt x="21595" y="3143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07240" cy="9906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906120"/>
              <a:gd name="textAreaBottom" fmla="*/ 9905760 h 9906120"/>
            </a:gdLst>
            <a:ahLst/>
            <a:rect l="textAreaLeft" t="textAreaTop" r="textAreaRight" b="textAreaBottom"/>
            <a:pathLst>
              <a:path w="21600" h="31433">
                <a:moveTo>
                  <a:pt x="5" y="0"/>
                </a:moveTo>
                <a:arcTo wR="5" hR="5" stAng="16200000" swAng="-5400000"/>
                <a:lnTo>
                  <a:pt x="0" y="31428"/>
                </a:lnTo>
                <a:arcTo wR="5" hR="5" stAng="10800000" swAng="-5400000"/>
                <a:lnTo>
                  <a:pt x="21595" y="3143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07240" cy="9906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906120"/>
              <a:gd name="textAreaBottom" fmla="*/ 9905760 h 9906120"/>
            </a:gdLst>
            <a:ahLst/>
            <a:rect l="textAreaLeft" t="textAreaTop" r="textAreaRight" b="textAreaBottom"/>
            <a:pathLst>
              <a:path w="21600" h="31433">
                <a:moveTo>
                  <a:pt x="5" y="0"/>
                </a:moveTo>
                <a:arcTo wR="5" hR="5" stAng="16200000" swAng="-5400000"/>
                <a:lnTo>
                  <a:pt x="0" y="31428"/>
                </a:lnTo>
                <a:arcTo wR="5" hR="5" stAng="10800000" swAng="-5400000"/>
                <a:lnTo>
                  <a:pt x="21595" y="3143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0" y="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854520" y="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03320" y="743040"/>
            <a:ext cx="6594480" cy="3711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520" bIns="4752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79320" y="4706640"/>
            <a:ext cx="5440320" cy="4452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0" y="941076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3"/>
          </p:nvPr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DA066D5F-D2DD-4376-8877-A07E220E3FBF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93604D93-81A0-4316-A9FB-E95885C105B7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30B806-062B-4EF4-A157-AB564A719CC0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A450BC49-09AA-4762-9A8C-CFBC05604950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E9EC52-9E96-4052-ACB9-355FBCC1A7AB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6783EB23-7E3A-435B-912C-BB7C3338BA5F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3A17E2-532D-428A-9756-7B6DB2F86ACE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220F38C2-A77E-463E-A9EF-E09FC24B07E6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2BBEA6-6ECD-4FD1-88A1-7814E9A7FFBD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D95AF13E-4684-4ED5-B33E-543478E26AFB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C79705-E954-4F13-BF51-E9E7FCB8E6E2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1F199A3F-C07F-48A9-9D13-886D10386FF5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A1F4C0-8881-420F-A63A-B500EFC24CB4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B168099F-9265-4611-9D83-842ED9E9C96C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936EA7-E503-4CAF-9F7D-D2C538F15D02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A3DA6494-0D9D-430B-9516-4B20BEA1D13B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80D58C-4957-43EE-AB36-CFC4BC3C8AA5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3BBBD18B-F505-402A-A46D-7861AF32DB4F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59E3C8-FE7E-47B5-8B11-9F64B6509972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330B896A-BAEB-49DF-A70D-4BBCC704C0F9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7C7846-8D46-4BC6-BC79-E773607E7B2E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F9F82646-314A-43CF-85C3-650C477B50D2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225E12-AB49-491C-9F7F-BEC2F1A95728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9A933802-D370-460B-85B1-B950D45B3B8E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2171EE-1099-41E5-9DA5-9E039BFC1426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2AE5CCD8-9FFE-443B-908E-09A1C1EEF199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FF9E3F-F9A5-4600-92B5-3194068DAA5B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1CA4D5A9-E712-4BD2-872E-38DF021D5B98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667765-7DE8-451A-AB6B-114083F53624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13FFD6FE-7CCE-4629-BDBC-6A5A3AF4B61B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3D4C6B-BD2C-4DFD-8826-F482161FB77D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D8C36FF1-2684-4E72-B69B-35C0251C50F4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F1FE6A-163F-463B-A8E8-81D06E8CF5BC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96AE631B-DF42-4E85-8742-6A78B95D1B6A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4DBA46-825F-4707-B324-2081D8AB8B8B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2AD775FC-17D7-4BDB-9644-984363F7EF23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4C5C10-F8B2-4353-8415-3E7515CB811D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50FCF5AD-E41D-42E3-A57C-6082BC465A66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661345-03D9-45C0-A176-71CAD1D9CC45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4ECF59DF-B835-444B-9B64-E06A50553BCD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B0BABE-3EC5-4089-9275-B6C6AB92B0C4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621ED26F-DB4D-4510-BED3-750909C2FAEC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A555FE-DACA-4441-AE9D-C995FD0E0DAB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D81A96CA-31E9-425C-9C04-2EC7295A4461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C236FD-50C3-4E7B-B506-9E703AD1D1EB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F8F73-009D-4784-B8E0-8820C74D43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8224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411720"/>
            <a:ext cx="8224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49E15-738C-4DE9-B963-B89979B95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20024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411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411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2A5A5-F921-4C70-9853-EAC404E9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20024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20024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41172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41172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41172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8FFB1-CCA2-497E-9E7D-AE71A83FC0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200240"/>
            <a:ext cx="8224920" cy="42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FAA8E-F735-4DD5-BD75-E895726F9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822492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7AE4B-EB34-492C-A768-1DABD7661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40136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200240"/>
            <a:ext cx="40136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B38DC-712B-448D-BFB4-F0CF3B262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65B66-5BE6-4AE3-B377-D83F9249E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-8244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6FF37-53E5-4670-BED7-73AB45CB7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200240"/>
            <a:ext cx="40136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411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BD484-C0BA-49AC-A52E-DD443A369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40136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20024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411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F9EEC-F29F-40EE-A860-573A7A38A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20024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411720"/>
            <a:ext cx="8224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DC516-D68B-42DF-AE67-F7AF2065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200240"/>
            <a:ext cx="822492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18160"/>
            <a:ext cx="21286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17/07/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47196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4718160"/>
            <a:ext cx="21290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1DD965-0390-42C3-BB10-AD74E6D43912}" type="slidenum">
              <a:rPr b="0" lang="pt-B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1763640" y="1636560"/>
            <a:ext cx="57150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1e9d1e"/>
                </a:solidFill>
                <a:latin typeface="Arial"/>
                <a:ea typeface="Arial"/>
              </a:rPr>
              <a:t>Câmara Temática de Inovação Tecnológ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1e9d1e"/>
                </a:solidFill>
                <a:latin typeface="Arial"/>
                <a:ea typeface="Arial"/>
              </a:rPr>
              <a:t>Conselho Consultivo de Rádio Dig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56" name="CaixaDeTexto 6"/>
          <p:cNvSpPr/>
          <p:nvPr/>
        </p:nvSpPr>
        <p:spPr>
          <a:xfrm>
            <a:off x="2411280" y="4444920"/>
            <a:ext cx="46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1e9d1e"/>
                </a:solidFill>
                <a:latin typeface="Arial"/>
                <a:ea typeface="Arial"/>
              </a:rPr>
              <a:t>Brasília, 28 de fevereiro de 201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900000" y="113184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2966ba"/>
                </a:solidFill>
                <a:latin typeface="Calibri"/>
              </a:rPr>
              <a:t>Questionário enviado aos representantes dos siste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7E0857-7B23-4F39-9A84-094A8A9E2ED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CaixaDeTexto 14"/>
          <p:cNvSpPr/>
          <p:nvPr/>
        </p:nvSpPr>
        <p:spPr>
          <a:xfrm>
            <a:off x="468360" y="1924200"/>
            <a:ext cx="8207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CaixaDeTexto 15"/>
          <p:cNvSpPr/>
          <p:nvPr/>
        </p:nvSpPr>
        <p:spPr>
          <a:xfrm>
            <a:off x="468360" y="1758960"/>
            <a:ext cx="8207280" cy="32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7878de"/>
                </a:solidFill>
                <a:latin typeface="Arial"/>
              </a:rPr>
              <a:t> </a:t>
            </a:r>
            <a:r>
              <a:rPr b="1" lang="pt-BR" sz="1800" spc="-1" strike="noStrike">
                <a:solidFill>
                  <a:srgbClr val="2966ba"/>
                </a:solidFill>
                <a:latin typeface="Calibri"/>
              </a:rPr>
              <a:t>Solicitação: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relação dos serviços/aplicativos disponíveis ou em desenvolvimento, com breve descriç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  <a:ea typeface="Microsoft YaHei"/>
              </a:rPr>
              <a:t>nome comercial do aplicativo/serviço e/ou desenvolviment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  <a:ea typeface="Microsoft YaHei"/>
              </a:rPr>
              <a:t>classificação como serviço e/ou aplicativ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  <a:ea typeface="Microsoft YaHei"/>
              </a:rPr>
              <a:t>descrições técnicas: estruturas de desenvolvimento e funcionamento, incluindo informações sobre a taxa de bits mínima e a ideal além de limitações ou restrições para funcionamento do serviço/aplicativo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  <a:ea typeface="Microsoft YaHei"/>
              </a:rPr>
              <a:t>descrição para o usuári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  <a:ea typeface="Microsoft YaHei"/>
              </a:rPr>
              <a:t>faixa de funcionamento: se serviço/aplicativo está disponível para todas as faixas de serviço de radiodifusão sonora (FM, OM, OC, O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395280" y="1374840"/>
            <a:ext cx="8280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  <a:ea typeface="Microsoft YaHei"/>
              </a:rPr>
              <a:t>vinculação simples: se o aplicativo/serviço está vinculado a uma programação de áudio e, nesse caso, se está compartilhando com o áudio um único serviç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  <a:ea typeface="Microsoft YaHei"/>
              </a:rPr>
              <a:t>vinculação composta: se o aplicativo/serviço pode ser vinculado simultanea-mente a todas as programações de áudio permitidas pelo sistema, ocupando uma única taxa de dados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  <a:ea typeface="Microsoft YaHei"/>
              </a:rPr>
              <a:t>relação de compromisso entre o áudio digital e os aplicativos/serviços (qualidade de áudio x aplicativo/serviç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  <a:ea typeface="Microsoft YaHei"/>
              </a:rPr>
              <a:t>localização do serviço: descrever em que portadoras OFDM estão localizados os serviços/aplicativos no sistema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pt-BR" sz="1800" spc="-1" strike="noStrike">
                <a:solidFill>
                  <a:srgbClr val="2966ba"/>
                </a:solidFill>
                <a:latin typeface="Calibri"/>
                <a:ea typeface="Microsoft YaHei"/>
              </a:rPr>
              <a:t>middleware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  <a:ea typeface="Microsoft YaHei"/>
              </a:rPr>
              <a:t>: se há a necessidade para uso do serviço/aplicativ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41EC17-B7DC-4C47-9DDD-CB91E51CB9A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468360" y="1243080"/>
            <a:ext cx="806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  <a:ea typeface="Microsoft YaHei"/>
              </a:rPr>
              <a:t>receptor: características básicas para acessar o aplicativo/serviço (ex: formato da tela, processador mais rápido, etc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  <a:ea typeface="Microsoft YaHei"/>
              </a:rPr>
              <a:t>transmissor: serviço/aplicativo contido no transmissor digital ou há necessidade de aquisição de um equipamento ou software específic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  <a:ea typeface="Microsoft YaHei"/>
              </a:rPr>
              <a:t>recepção: na recepção, o conteúdo transmitido  pode ser condicionado a um usuário específico por meio de um 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  <a:ea typeface="Microsoft YaHei"/>
              </a:rPr>
              <a:t>informações adicionai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  <a:ea typeface="Microsoft YaHei"/>
              </a:rPr>
              <a:t>Qual a concepção de serviço e aplicativ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  <a:ea typeface="Microsoft YaHei"/>
              </a:rPr>
              <a:t>Informações acerca da relação de compromisso entre o quantitativo de serviços/aplicativos e a qualidade do áudi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386F2D-583E-4BDE-B21D-51CD151E28D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928800" y="2239920"/>
            <a:ext cx="7358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Aplicativo: transmissão junto do conteúdo de um serviço/ca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Serviço: ocupa um canal específico, mesmo que seja acessado por meio de um outro serviç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900000" y="1320840"/>
            <a:ext cx="56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2966ba"/>
                </a:solidFill>
                <a:latin typeface="Calibri"/>
              </a:rPr>
              <a:t>Aplicativo x Serviç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31DD4B-5C4D-4CBB-91E9-8B7902369C2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900000" y="113184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2966ba"/>
                </a:solidFill>
                <a:latin typeface="Calibri"/>
              </a:rPr>
              <a:t>Descrição dos Aplicativos e Serviç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25C983-4219-43AD-94E3-87F68E2A05E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468360" y="1627200"/>
          <a:ext cx="8064360" cy="2906640"/>
        </p:xfrm>
        <a:graphic>
          <a:graphicData uri="http://schemas.openxmlformats.org/drawingml/2006/table">
            <a:tbl>
              <a:tblPr/>
              <a:tblGrid>
                <a:gridCol w="1079280"/>
                <a:gridCol w="2305080"/>
                <a:gridCol w="2951280"/>
                <a:gridCol w="1076400"/>
                <a:gridCol w="652320"/>
              </a:tblGrid>
              <a:tr h="75564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DRÃ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Ç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EVE DESCRIÇÃ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XA DE BITS (aprox.) [kbps]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IX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 rowSpan="8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D Radi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 Service Data (PSD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ítulo da música e artista/ Título comercial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/FM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tist Experie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a de Disco/ Logomarca da Emissora/ Imagem Comercial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M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e Aler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ço Digital de Alerta de Emergência e Informaçã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/FM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ng Tagging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gração ao Comércio de Músic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/FM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D Traffic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rmações de Tráfego e Map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 - 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M (AM?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 and Information Service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ço de Texto/ Notícias/ Clima/ Esporte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M (AM?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ectronic Program Guid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ação de emissoras de uma determinada áre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- 1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M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g Statio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atividade de dados – serviço para celulares com rádio digital integrad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M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FC0844-A0BD-46A7-AB2F-D275B17595A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611280" y="1492200"/>
          <a:ext cx="7993080" cy="3274920"/>
        </p:xfrm>
        <a:graphic>
          <a:graphicData uri="http://schemas.openxmlformats.org/drawingml/2006/table">
            <a:tbl>
              <a:tblPr/>
              <a:tblGrid>
                <a:gridCol w="936360"/>
                <a:gridCol w="2448000"/>
                <a:gridCol w="2448000"/>
                <a:gridCol w="1008000"/>
                <a:gridCol w="1152720"/>
              </a:tblGrid>
              <a:tr h="43200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DRÃ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Ç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EVE DESCRIÇÃ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XA DE BITS (aprox.) [kbps]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IX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 rowSpan="8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M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WBS (Emergency Warning Broadcast System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stema de Transmissão de Aviso de Emergênci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sagens de Texto DRM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o com rolagem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8 (DRM30) / 0,32 (DRM+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M, OM, OT e OC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urnali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o avançado com canal de retor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 - 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M, OM, OT e OC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0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lideshow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agens/animaçõe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M, OM, OT e OC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0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PG - Electronic Programme Guid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ia de Programação Eletrônic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M, OM, OT e OC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veem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ídeo de baixa resoluçã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M, OM, OT e OC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MC (Canal de Mensagem de Tráfego)/</a:t>
                      </a:r>
                      <a:br>
                        <a:rPr sz="1100"/>
                      </a:b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PEG (Transport Protocol Experts Group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rmação de tráfeg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M, OM, OT e OC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7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nsmissão Transparente de Arquivo MOT</a:t>
                      </a:r>
                      <a:br>
                        <a:rPr sz="1100"/>
                      </a:b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MOT: Multimedia Object Transfer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tocolo para transmissão de arquivos/estruturas de diretórios,</a:t>
                      </a:r>
                      <a:br>
                        <a:rPr sz="1100"/>
                      </a:b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lui Broadcast Website ("Website de Emissora"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M, OM, OT e OC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" name="Text Box 7"/>
          <p:cNvSpPr/>
          <p:nvPr/>
        </p:nvSpPr>
        <p:spPr>
          <a:xfrm>
            <a:off x="900000" y="9889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2966ba"/>
                </a:solidFill>
                <a:latin typeface="Calibri"/>
              </a:rPr>
              <a:t>Descrição dos Aplicativos e Serviç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928800" y="1878120"/>
            <a:ext cx="735804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3366ff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3366ff"/>
                </a:solidFill>
                <a:latin typeface="Calibri"/>
              </a:rPr>
              <a:t>Levantar a capacidade de bits</a:t>
            </a:r>
            <a:r>
              <a:rPr b="0" lang="pt-BR" sz="1800" spc="-1" strike="noStrike">
                <a:solidFill>
                  <a:srgbClr val="7878de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úteis dos sistemas, de acordo com a largura de banda do canal e a configuração utiliza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- capacidade de um canal diretamente relacionado à largura de banda 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   do canal (B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Serviço     AM: B = 20kHz (HD)/10kHz (DR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FM: B = 200kHz (HD)/100kHz (DR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900000" y="113184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Metodologia de Trabalh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353C5F-93C4-41ED-A837-6129B239F1E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Chave esquerda 12"/>
          <p:cNvSpPr/>
          <p:nvPr/>
        </p:nvSpPr>
        <p:spPr>
          <a:xfrm>
            <a:off x="2411280" y="3652920"/>
            <a:ext cx="46080" cy="647640"/>
          </a:xfrm>
          <a:custGeom>
            <a:avLst/>
            <a:gdLst>
              <a:gd name="textAreaLeft" fmla="*/ 29520 w 46080"/>
              <a:gd name="textAreaRight" fmla="*/ 46440 w 46080"/>
              <a:gd name="textAreaTop" fmla="*/ 1080 h 647640"/>
              <a:gd name="textAreaBottom" fmla="*/ 64656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7"/>
                </a:cubicBezTo>
                <a:lnTo>
                  <a:pt x="10800" y="10673"/>
                </a:lnTo>
                <a:cubicBezTo>
                  <a:pt x="10800" y="10737"/>
                  <a:pt x="5400" y="10800"/>
                  <a:pt x="0" y="10800"/>
                </a:cubicBezTo>
                <a:cubicBezTo>
                  <a:pt x="5400" y="10800"/>
                  <a:pt x="10800" y="10864"/>
                  <a:pt x="10800" y="10927"/>
                </a:cubicBezTo>
                <a:lnTo>
                  <a:pt x="10800" y="21473"/>
                </a:lnTo>
                <a:cubicBezTo>
                  <a:pt x="10800" y="21537"/>
                  <a:pt x="16200" y="21600"/>
                  <a:pt x="21600" y="21600"/>
                </a:cubicBezTo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1332000" y="915840"/>
            <a:ext cx="6243480" cy="4029120"/>
          </a:xfrm>
          <a:prstGeom prst="rect">
            <a:avLst/>
          </a:prstGeom>
          <a:ln w="0">
            <a:noFill/>
          </a:ln>
        </p:spPr>
      </p:pic>
      <p:sp>
        <p:nvSpPr>
          <p:cNvPr id="20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8" descr=""/>
          <p:cNvPicPr/>
          <p:nvPr/>
        </p:nvPicPr>
        <p:blipFill>
          <a:blip r:embed="rId2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FA5062-AA7B-4AC3-84FD-101B8DE401B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1447920" y="923760"/>
            <a:ext cx="6248160" cy="4024440"/>
          </a:xfrm>
          <a:prstGeom prst="rect">
            <a:avLst/>
          </a:prstGeom>
          <a:ln w="0">
            <a:noFill/>
          </a:ln>
        </p:spPr>
      </p:pic>
      <p:sp>
        <p:nvSpPr>
          <p:cNvPr id="217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8" descr=""/>
          <p:cNvPicPr/>
          <p:nvPr/>
        </p:nvPicPr>
        <p:blipFill>
          <a:blip r:embed="rId2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CE4E1A-BB77-409A-BDF1-E160F9BD0A8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1644480" y="988920"/>
            <a:ext cx="5853240" cy="3853080"/>
          </a:xfrm>
          <a:prstGeom prst="rect">
            <a:avLst/>
          </a:prstGeom>
          <a:ln w="0">
            <a:noFill/>
          </a:ln>
        </p:spPr>
      </p:pic>
      <p:sp>
        <p:nvSpPr>
          <p:cNvPr id="226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8" descr=""/>
          <p:cNvPicPr/>
          <p:nvPr/>
        </p:nvPicPr>
        <p:blipFill>
          <a:blip r:embed="rId2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AA27D7-EC1F-4CF2-90A5-4933C7A6CD3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928800" y="1924200"/>
            <a:ext cx="73580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buClr>
                <a:srgbClr val="2966ba"/>
              </a:buClr>
              <a:buFont typeface="Calibri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Objetiv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2966ba"/>
              </a:buClr>
              <a:buFont typeface="Calibri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3366ff"/>
                </a:solidFill>
                <a:latin typeface="Calibri"/>
              </a:rPr>
              <a:t>Histórico e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 Planejam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2966ba"/>
              </a:buClr>
              <a:buFont typeface="Calibri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Descrição dos Serviç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2966ba"/>
              </a:buClr>
              <a:buFont typeface="Calibri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Metodolog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2966ba"/>
              </a:buClr>
              <a:buFont typeface="Calibri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Próximos Pass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900000" y="1276200"/>
            <a:ext cx="73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Agen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95BBC7-E6E2-4E82-811D-1A14B6519B5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1909A5-E7B6-493E-AD01-759BDD6958A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2"/>
          <a:stretch/>
        </p:blipFill>
        <p:spPr>
          <a:xfrm>
            <a:off x="1736640" y="988920"/>
            <a:ext cx="5859720" cy="38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019C65-71B6-4085-B74A-1C431120961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tângulo 9"/>
          <p:cNvSpPr/>
          <p:nvPr/>
        </p:nvSpPr>
        <p:spPr>
          <a:xfrm>
            <a:off x="923760" y="1204920"/>
            <a:ext cx="23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Próximos pass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958680" y="1878120"/>
            <a:ext cx="73584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Qualidade do áudio (quantidade de bits necessários; codificador de fonte) e a disponibilidade para os diferentes serviços (AM e F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Quantidade de serviços possíveis para cada serviço (simular casos práticos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 </a:t>
            </a:r>
            <a:r>
              <a:rPr b="0" i="1" lang="en-US" sz="1800" spc="-1" strike="noStrike">
                <a:solidFill>
                  <a:srgbClr val="3366ff"/>
                </a:solidFill>
                <a:latin typeface="Calibri"/>
              </a:rPr>
              <a:t>Middlewares - 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processar e complementar a informaçã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Levantamento sobre a convergência do rádio com outros serviços digita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Características mínimas para os receptores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ff"/>
                </a:solidFill>
                <a:latin typeface="Calibri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5362EC-AB39-4240-878D-2C269B6DCB6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900000" y="1333440"/>
            <a:ext cx="7417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6666ff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6666ff"/>
                </a:solidFill>
                <a:latin typeface="Calibri"/>
              </a:rPr>
              <a:t>Equipe do Rádio Digital – CGO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Calibri"/>
              </a:rPr>
              <a:t>Elza Maria Fernandes – </a:t>
            </a:r>
            <a:r>
              <a:rPr b="0" lang="en-US" sz="1800" spc="-1" strike="noStrike" u="sng">
                <a:solidFill>
                  <a:srgbClr val="6666ff"/>
                </a:solidFill>
                <a:uFillTx/>
                <a:latin typeface="Calibri"/>
              </a:rPr>
              <a:t>elza.fernandes@mc.gov.b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Calibri"/>
              </a:rPr>
              <a:t>Flávio Ferreira Lima – </a:t>
            </a:r>
            <a:r>
              <a:rPr b="0" lang="en-US" sz="1800" spc="-1" strike="noStrike" u="sng">
                <a:solidFill>
                  <a:srgbClr val="6666ff"/>
                </a:solidFill>
                <a:uFillTx/>
                <a:latin typeface="Calibri"/>
              </a:rPr>
              <a:t>flavio.ferreira@mc.gov.b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Calibri"/>
              </a:rPr>
              <a:t>Letícia Ribeiro Cardoso – </a:t>
            </a:r>
            <a:r>
              <a:rPr b="0" lang="en-US" sz="1800" spc="-1" strike="noStrike" u="sng">
                <a:solidFill>
                  <a:srgbClr val="6666ff"/>
                </a:solidFill>
                <a:uFillTx/>
                <a:latin typeface="Calibri"/>
              </a:rPr>
              <a:t>leticia.cardoso@mc.gov.b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Calibri"/>
              </a:rPr>
              <a:t>Gilvandson Costa Cavalcante – </a:t>
            </a:r>
            <a:r>
              <a:rPr b="0" lang="en-US" sz="1800" spc="-1" strike="noStrike" u="sng">
                <a:solidFill>
                  <a:srgbClr val="6666ff"/>
                </a:solidFill>
                <a:uFillTx/>
                <a:latin typeface="Calibri"/>
              </a:rPr>
              <a:t>gilvandson.cavalcante@mc.gov.b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928800" y="1924200"/>
            <a:ext cx="7358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3366ff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Inovação</a:t>
            </a:r>
            <a:r>
              <a:rPr b="0" lang="pt-BR" sz="1800" spc="-1" strike="noStrike">
                <a:solidFill>
                  <a:srgbClr val="3366ff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tecnológica – Mapeamento dos serviços, aplicativos e avanços recentes em ambos os sistemas, de projetos e iniciativas acadêmicas e das modificações necessárias para adequação do sistema às peculiaridades do paí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900000" y="1276200"/>
            <a:ext cx="73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Proposta aprovada pelo CCRD na 1ª Reunião </a:t>
            </a:r>
            <a:r>
              <a:rPr b="1" lang="pt-BR" sz="1600" spc="-1" strike="noStrike">
                <a:solidFill>
                  <a:srgbClr val="2966ba"/>
                </a:solidFill>
                <a:latin typeface="Calibri"/>
              </a:rPr>
              <a:t>(23/10/201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75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95E9A0-F3F1-4D4E-A510-B6E6BCFC723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928800" y="1924200"/>
            <a:ext cx="73580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900000" y="1276200"/>
            <a:ext cx="73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Rádio Digital – oportunida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03EEE9-C45D-4664-94A2-DA0D6003CCA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1030320" y="2023920"/>
            <a:ext cx="7358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Melhorar o áudio – suficient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Agregar serviços de dados – diferencial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Convergência com outros serviços digita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Exclusão social ou oportunidade de inclusão soc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928800" y="1716120"/>
            <a:ext cx="735804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  <a:ea typeface="Times New Roman"/>
              </a:rPr>
              <a:t> ͣ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  <a:ea typeface="Times New Roman"/>
              </a:rPr>
              <a:t>  Reunião da Câmara – 28/11/20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  <a:ea typeface="Times New Roman"/>
              </a:rPr>
              <a:t>Apresentação da proposta dos assuntos a serem abord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  <a:ea typeface="Times New Roman"/>
              </a:rPr>
              <a:t>Indicação de representantes (</a:t>
            </a:r>
            <a:r>
              <a:rPr b="0" lang="pt-BR" sz="1800" spc="-1" strike="noStrike">
                <a:solidFill>
                  <a:srgbClr val="3366ff"/>
                </a:solidFill>
                <a:latin typeface="Calibri"/>
                <a:ea typeface="Times New Roman"/>
              </a:rPr>
              <a:t>AMARC, ABRA/MACKENZIE, ABERT, ANATEL, ELETROS (PIONEER), MinC, ABIRD, MDIC, ABRAÇO NACIONAL e padrões de rádio digital testados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  <a:ea typeface="Times New Roman"/>
              </a:rPr>
              <a:t> ͣ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  <a:ea typeface="Times New Roman"/>
              </a:rPr>
              <a:t>  Reunião da Câmara – 14/12/2012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  <a:ea typeface="Times New Roman"/>
              </a:rPr>
              <a:t>Apresentação da proposta de funcionamento da Câma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900000" y="1276200"/>
            <a:ext cx="73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Histór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D00BF9-0103-4889-8ED5-571C72A9ECE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900000" y="1685880"/>
            <a:ext cx="735804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2966ba"/>
                </a:solidFill>
                <a:latin typeface="Calibri"/>
              </a:rPr>
              <a:t>Tópico 1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Conhecimento dos serviços e aplicativos existentes para cada sistema bem como o desenvolvimento de inovaçõ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2966ba"/>
                </a:solidFill>
                <a:latin typeface="Calibri"/>
              </a:rPr>
              <a:t> </a:t>
            </a:r>
            <a:r>
              <a:rPr b="1" lang="pt-BR" sz="2000" spc="-1" strike="noStrike">
                <a:solidFill>
                  <a:srgbClr val="2966ba"/>
                </a:solidFill>
                <a:latin typeface="Calibri"/>
              </a:rPr>
              <a:t>Tópico 2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Definição das condições técnicas para a convergência do serviço de Televisão Digital com cada um dos sistemas de Rádio Digital em análi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898560" y="1127160"/>
            <a:ext cx="56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Planejam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79E3F9-1F6A-45A1-B35A-29EB7AAEB0F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826920" y="1492200"/>
            <a:ext cx="7358400" cy="43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2966ba"/>
                </a:solidFill>
                <a:latin typeface="Calibri"/>
              </a:rPr>
              <a:t>Objetivo Geral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	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Verificar as oportunidades criadas a partir da implantação do Rádio Digital, além da melhoria na qualidade do áudi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2966ba"/>
                </a:solidFill>
                <a:latin typeface="Calibri"/>
              </a:rPr>
              <a:t>Objetivos Específico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Definir o que é serviço e aplicativ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Levantar os serviços e os aplicativos disponíveis para cada padrã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Verificar se serviços/aplicativos estão ligados a programações, e se for este o caso, se os mesmos estão disponíveis para todas as programações com as mesmas característic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755640" y="988920"/>
            <a:ext cx="61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Tópico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C22C46-DD30-4276-9FEE-BBEDC65A579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900000" y="1492200"/>
            <a:ext cx="7358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2966ba"/>
                </a:solidFill>
                <a:latin typeface="Calibri"/>
              </a:rPr>
              <a:t>Objetivos Específicos (continuação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2966ba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Verificar as condições necessárias para acesso aos serviços e aplicativos (do ponto de vista do radiodifusor e do ouvinte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Verificar as características dos </a:t>
            </a:r>
            <a:r>
              <a:rPr b="0" i="1" lang="pt-BR" sz="1800" spc="-1" strike="noStrike">
                <a:solidFill>
                  <a:srgbClr val="2966ba"/>
                </a:solidFill>
                <a:latin typeface="Calibri"/>
              </a:rPr>
              <a:t>middlewares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usados por cada sistema, a possibilidade de substituí-los pelo Ginga, ou mesmo acrescentá-lo, e as condições estabelecidas para essa inclusão/substituiçã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Indicar os serviços básicos desejáveis em uma futura implantação do rádio digital e que características técnicas os receptores deveriam ter para acessá-lo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B04DAC-EA32-490D-8125-8FC6699918E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882720" y="1131840"/>
            <a:ext cx="61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Tópico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E9256B-6526-4D51-B29D-CDA02E2595E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tângulo 1"/>
          <p:cNvSpPr/>
          <p:nvPr/>
        </p:nvSpPr>
        <p:spPr>
          <a:xfrm>
            <a:off x="934920" y="1727280"/>
            <a:ext cx="720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2966ba"/>
                </a:solidFill>
                <a:latin typeface="Calibri"/>
              </a:rPr>
              <a:t>Objetivo Geral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	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Verificar a possibilidade de convergência com a TV Digital e as condições para que isso ocorr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2966ba"/>
                </a:solidFill>
                <a:latin typeface="Calibri"/>
              </a:rPr>
              <a:t>Objetivos Específico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Especificar quais as condições para haver a convergência do sistema de rádio digital com o padrão de TV Digital adotado pelo Brasi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Determinar as modificações necessárias para cada um dos padrõ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Verificar se as modificações identificadas são passíveis de atendimento e quais as condições estabelecidas por cada padrão para a sua realizaçã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18:00:26Z</dcterms:created>
  <dc:creator>pericles.teodoro</dc:creator>
  <dc:description/>
  <dc:language>en-US</dc:language>
  <cp:lastModifiedBy>Elza Maria Del Negro B.Fernandes</cp:lastModifiedBy>
  <cp:lastPrinted>2013-02-28T16:29:20Z</cp:lastPrinted>
  <dcterms:modified xsi:type="dcterms:W3CDTF">2013-02-28T16:47:33Z</dcterms:modified>
  <cp:revision>227</cp:revision>
  <dc:subject/>
  <dc:title>Slide 1</dc:title>
</cp:coreProperties>
</file>