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CC1F-8829-4925-8A2D-29DEC7E4760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3F73-22C6-4343-BFCE-488D15A111A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CBAD-753B-4693-88FE-3D70D970E84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6CC8-4D1B-4AEE-BFB1-BAB50927F66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9638-17CD-4C7D-9C52-958CEE27BEB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D623-6B3D-4D83-87BD-121781F5448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59C6-EACB-46B8-A5FF-1165C5EC153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B7DE-AA88-4BB4-B1FC-740AC2DF36A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2285-B25C-4748-B1F6-E01E7DF47A0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FF6D-5B12-446B-A703-61FF2AC2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2F6F-6EB0-4105-AF02-EBEC2BA2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65C5-EDE8-41DE-A1E4-AA35E893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8B4-99D1-4FE7-A5D0-C83FEA53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86A-E6F9-4FF2-85ED-BB0B91CC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203-A4E8-44F1-941D-475D4CB9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473-8CE3-4D4C-9143-71B749C1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82B9-EF0A-465C-953C-EE66D783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008-F89C-467E-8D08-B8B8127A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7CF-8CC7-43A8-BB79-C2CA5093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46A-A703-4EAA-AAD2-36A9875F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372-894A-4783-A14E-1FF54FDF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A251-2F32-4E75-966C-456D556CE6C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AF0D-CA1D-44B8-961B-5F1A8CD651A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B002-BD59-4A08-A9F3-BF2F0165801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pic>
        <p:nvPicPr>
          <p:cNvPr id="54" name="Imagem 9" descr="blog-radio-digital.jpg"/>
          <p:cNvPicPr/>
          <p:nvPr/>
        </p:nvPicPr>
        <p:blipFill>
          <a:blip r:embed="rId3"/>
          <a:stretch/>
        </p:blipFill>
        <p:spPr>
          <a:xfrm>
            <a:off x="5148360" y="2349360"/>
            <a:ext cx="2689200" cy="1730520"/>
          </a:xfrm>
          <a:prstGeom prst="rect">
            <a:avLst/>
          </a:prstGeom>
          <a:ln w="0">
            <a:noFill/>
          </a:ln>
        </p:spPr>
      </p:pic>
      <p:pic>
        <p:nvPicPr>
          <p:cNvPr id="55" name="Imagem 11" descr="rádio digital.png"/>
          <p:cNvPicPr/>
          <p:nvPr/>
        </p:nvPicPr>
        <p:blipFill>
          <a:blip r:embed="rId4"/>
          <a:stretch/>
        </p:blipFill>
        <p:spPr>
          <a:xfrm>
            <a:off x="1116000" y="2349360"/>
            <a:ext cx="2457360" cy="165600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12"/>
          <p:cNvSpPr/>
          <p:nvPr/>
        </p:nvSpPr>
        <p:spPr>
          <a:xfrm>
            <a:off x="576360" y="139392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Comissão Temática sobre Política Industrial (CCRD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tângulo 1"/>
          <p:cNvSpPr/>
          <p:nvPr/>
        </p:nvSpPr>
        <p:spPr>
          <a:xfrm>
            <a:off x="3490920" y="5181480"/>
            <a:ext cx="21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f7f7f"/>
                </a:solidFill>
                <a:latin typeface="Calibri"/>
              </a:rPr>
              <a:t>Brasília, fevereiro de 201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2D8E-75C0-423E-8750-6D3177C4D25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64" name="CaixaDeTexto 12"/>
          <p:cNvSpPr/>
          <p:nvPr/>
        </p:nvSpPr>
        <p:spPr>
          <a:xfrm>
            <a:off x="1763640" y="13939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Reuniões realiz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tângulo de cantos arredondados 13"/>
          <p:cNvSpPr/>
          <p:nvPr/>
        </p:nvSpPr>
        <p:spPr>
          <a:xfrm>
            <a:off x="1332000" y="2349360"/>
            <a:ext cx="6696000" cy="2303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aixaDeTexto 14"/>
          <p:cNvSpPr/>
          <p:nvPr/>
        </p:nvSpPr>
        <p:spPr>
          <a:xfrm>
            <a:off x="1619280" y="297972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28 de novembro de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06 de dezembro de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A74E-EA12-4602-8BBE-06D9DA30807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73" name="CaixaDeTexto 12"/>
          <p:cNvSpPr/>
          <p:nvPr/>
        </p:nvSpPr>
        <p:spPr>
          <a:xfrm>
            <a:off x="1763640" y="13939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Entidades Particip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tângulo de cantos arredondados 13"/>
          <p:cNvSpPr/>
          <p:nvPr/>
        </p:nvSpPr>
        <p:spPr>
          <a:xfrm>
            <a:off x="1258920" y="2349360"/>
            <a:ext cx="6697800" cy="2087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aixaDeTexto 14"/>
          <p:cNvSpPr/>
          <p:nvPr/>
        </p:nvSpPr>
        <p:spPr>
          <a:xfrm>
            <a:off x="1619280" y="2492280"/>
            <a:ext cx="18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IN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I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ELET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aixaDeTexto 11"/>
          <p:cNvSpPr/>
          <p:nvPr/>
        </p:nvSpPr>
        <p:spPr>
          <a:xfrm>
            <a:off x="1258920" y="465300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Solicitação a algumas entidades de posicionamento sobre os padrões de rádio digi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aixaDeTexto 15"/>
          <p:cNvSpPr/>
          <p:nvPr/>
        </p:nvSpPr>
        <p:spPr>
          <a:xfrm>
            <a:off x="3564000" y="2492280"/>
            <a:ext cx="180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EB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D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Ibi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aixaDeTexto 16"/>
          <p:cNvSpPr/>
          <p:nvPr/>
        </p:nvSpPr>
        <p:spPr>
          <a:xfrm>
            <a:off x="5724360" y="2492280"/>
            <a:ext cx="18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Tell 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D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C/S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C/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85B0-4FFF-48A4-B13C-A7DFB43704D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84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85" name="CaixaDeTexto 12"/>
          <p:cNvSpPr/>
          <p:nvPr/>
        </p:nvSpPr>
        <p:spPr>
          <a:xfrm>
            <a:off x="1763640" y="103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Relató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tângulo de cantos arredondados 13"/>
          <p:cNvSpPr/>
          <p:nvPr/>
        </p:nvSpPr>
        <p:spPr>
          <a:xfrm>
            <a:off x="503280" y="1700280"/>
            <a:ext cx="8137440" cy="3744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aixaDeTexto 14"/>
          <p:cNvSpPr/>
          <p:nvPr/>
        </p:nvSpPr>
        <p:spPr>
          <a:xfrm>
            <a:off x="928800" y="2898720"/>
            <a:ext cx="292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Técn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Econôm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aixaDeTexto 17"/>
          <p:cNvSpPr/>
          <p:nvPr/>
        </p:nvSpPr>
        <p:spPr>
          <a:xfrm>
            <a:off x="4067280" y="2924280"/>
            <a:ext cx="446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Custo/Prazo de Implantação de uma rádio comercial padrã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Proposta de ação para tratar do passivo de receptores analógicos e custos envolvid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Proposta de desenvolvimento tecnológico no paí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Fabricantes interessados em utilizar o padrã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Radiodifusores interessados em utilizar o padrã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Opções de plano de negócios para os fabricant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Opções de  plano de negócios para cada tipo de radiodifuso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aixaDeTexto 18"/>
          <p:cNvSpPr/>
          <p:nvPr/>
        </p:nvSpPr>
        <p:spPr>
          <a:xfrm>
            <a:off x="2771640" y="18241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Informações solicitadas às entid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tângulo 1"/>
          <p:cNvSpPr/>
          <p:nvPr/>
        </p:nvSpPr>
        <p:spPr>
          <a:xfrm>
            <a:off x="3360600" y="239544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Visão acerca dos padrõ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D4AC-A322-445B-9EC6-F25A7F08FBA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96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97" name="CaixaDeTexto 12"/>
          <p:cNvSpPr/>
          <p:nvPr/>
        </p:nvSpPr>
        <p:spPr>
          <a:xfrm>
            <a:off x="1763640" y="1197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Posicionamento das ent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tângulo de cantos arredondados 9"/>
          <p:cNvSpPr/>
          <p:nvPr/>
        </p:nvSpPr>
        <p:spPr>
          <a:xfrm>
            <a:off x="755640" y="1916280"/>
            <a:ext cx="7632720" cy="3528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aixaDeTexto 2"/>
          <p:cNvSpPr/>
          <p:nvPr/>
        </p:nvSpPr>
        <p:spPr>
          <a:xfrm>
            <a:off x="1116000" y="20606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Parte das entidades ainda não se posiciona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Entre as entidades que apresentaram posicionamento, apontamos alguns tópicos a serem considerad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aixaDeTexto 6"/>
          <p:cNvSpPr/>
          <p:nvPr/>
        </p:nvSpPr>
        <p:spPr>
          <a:xfrm>
            <a:off x="1116000" y="292104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Cronograma de implantação do novo padrão, para que todos envolvidos  possam cumprir suas respectivas etap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O padrão não deve ser híbrido, visando permitir  a exportação dos transmissores e proporcionar uma melhor escala econômica e precificação para o mercado consumid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Solicitação de estudos sobre a digitalização da faixa de frequência de Ondas Cur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8ED1-9FBA-42D9-9BC1-3514C7B4CA8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1"/>
          <p:cNvSpPr/>
          <p:nvPr/>
        </p:nvSpPr>
        <p:spPr>
          <a:xfrm>
            <a:off x="1224000" y="180504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DRM e Tell H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tângulo de cantos arredondados 9"/>
          <p:cNvSpPr/>
          <p:nvPr/>
        </p:nvSpPr>
        <p:spPr>
          <a:xfrm>
            <a:off x="1224000" y="2540160"/>
            <a:ext cx="6696000" cy="18968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aixaDeTexto 2"/>
          <p:cNvSpPr/>
          <p:nvPr/>
        </p:nvSpPr>
        <p:spPr>
          <a:xfrm>
            <a:off x="1511280" y="26258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Ambas as entidades enviaram informações acerca de mercado, custos e prazos de implantação e plano de negócio para a digitalização do rád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Essas informações estão sendo avaliad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aixaDeTexto 15"/>
          <p:cNvSpPr/>
          <p:nvPr/>
        </p:nvSpPr>
        <p:spPr>
          <a:xfrm>
            <a:off x="1763640" y="1197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Posicionamento das ent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547B-5633-4CEB-B68D-616C25574FE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116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117" name="CaixaDeTexto 12"/>
          <p:cNvSpPr/>
          <p:nvPr/>
        </p:nvSpPr>
        <p:spPr>
          <a:xfrm>
            <a:off x="1763640" y="13939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Encaminha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tângulo de cantos arredondados 9"/>
          <p:cNvSpPr/>
          <p:nvPr/>
        </p:nvSpPr>
        <p:spPr>
          <a:xfrm>
            <a:off x="1224000" y="2565360"/>
            <a:ext cx="6696000" cy="17524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aixaDeTexto 2"/>
          <p:cNvSpPr/>
          <p:nvPr/>
        </p:nvSpPr>
        <p:spPr>
          <a:xfrm>
            <a:off x="1511280" y="2732040"/>
            <a:ext cx="61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A coordenação do subgrupo CCRD1 irá consolidar todos os posicionamentos das entidades e formulará suas considerações acerca do padrão a ser adot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Será realizada reunião para apresentar o relatório final ao subgrup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98E0-12D6-4537-ADBE-F000F061D52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125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126" name="CaixaDeTexto 12"/>
          <p:cNvSpPr/>
          <p:nvPr/>
        </p:nvSpPr>
        <p:spPr>
          <a:xfrm>
            <a:off x="1763640" y="243360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Obriga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tângulo 11"/>
          <p:cNvSpPr/>
          <p:nvPr/>
        </p:nvSpPr>
        <p:spPr>
          <a:xfrm>
            <a:off x="3490920" y="5157720"/>
            <a:ext cx="21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f7f7f"/>
                </a:solidFill>
                <a:latin typeface="Calibri"/>
              </a:rPr>
              <a:t>Brasília, fevereiro de 201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21:36:32Z</dcterms:created>
  <dc:creator>Rafael Andrade Reis de Araújo</dc:creator>
  <dc:description/>
  <dc:language>en-US</dc:language>
  <cp:lastModifiedBy>Otavio Viegas Caixeta</cp:lastModifiedBy>
  <dcterms:modified xsi:type="dcterms:W3CDTF">2013-02-28T17:23:26Z</dcterms:modified>
  <cp:revision>37</cp:revision>
  <dc:subject/>
  <dc:title>Apresentação do PowerPoint</dc:title>
</cp:coreProperties>
</file>