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53762-DC73-4D45-B29E-58E07CC3CBF3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1832-4DEA-4C50-98E6-57335DEC95D8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5C377-D7C0-4C3C-B7C8-BDC1964030D4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5CFC-FDE8-4F2A-B213-225C18357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52200"/>
            <a:ext cx="822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54360"/>
            <a:ext cx="822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0FC4-F4F3-4AC3-9E98-80EFBDAE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5220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5220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5436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5436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75F4-5C3B-44BE-ADB7-F6CDA9BBC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52200"/>
            <a:ext cx="264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52200"/>
            <a:ext cx="264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52200"/>
            <a:ext cx="264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54360"/>
            <a:ext cx="264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54360"/>
            <a:ext cx="264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54360"/>
            <a:ext cx="264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8567-F7F0-42A5-B122-E06178680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89220-6745-49A8-96A9-F2EB0F89F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95220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F4AF0-F4DF-4054-B870-747AB7587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5220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26219-4D58-43D6-9D75-96174F482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952200"/>
            <a:ext cx="40158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952200"/>
            <a:ext cx="40158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F1D17-CF96-4015-BF64-B17805332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C4B7A-82F7-487A-B43C-B618DDAFF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63440"/>
            <a:ext cx="8229600" cy="27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4BC5C-A58D-4E1A-BD7F-4ED5FF174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5220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952200"/>
            <a:ext cx="40158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5436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133B0-B962-47C9-AEED-AA11DADC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5220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788B-D5A6-465F-BC75-459A8B059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952200"/>
            <a:ext cx="40158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95220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5436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9E473-0272-4817-A46A-3704FA68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95220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95220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54360"/>
            <a:ext cx="822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36193-6D59-45C6-B44F-2634FBBF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952200"/>
            <a:ext cx="822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54360"/>
            <a:ext cx="822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42AA0-28A4-4059-9FC6-E350B37C6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95220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95220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5436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5436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8F782-1A7C-4393-A624-3C051635D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52200"/>
            <a:ext cx="264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952200"/>
            <a:ext cx="264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952200"/>
            <a:ext cx="264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54360"/>
            <a:ext cx="264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54360"/>
            <a:ext cx="264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54360"/>
            <a:ext cx="264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636C3-55ED-497F-A7DA-66740F685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5220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742C-64AD-43D1-A5AF-37EA64693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52200"/>
            <a:ext cx="40158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52200"/>
            <a:ext cx="40158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503D-0F0A-44F5-B818-A8EE29899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E828-1679-4664-9E9B-9161B0FDB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63440"/>
            <a:ext cx="8229600" cy="27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D50D-5B00-4D27-948A-95CF1847C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5220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52200"/>
            <a:ext cx="40158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5436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5800-9342-482A-B9B6-15172620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52200"/>
            <a:ext cx="40158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5220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5436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6031-9B44-4AD0-831C-24AE984F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5220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5220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54360"/>
            <a:ext cx="822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16FF-2427-4F4B-BF83-04B7F893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5220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0000"/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99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ff99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9164F-611C-41FA-9A6C-F67E8F1486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CA1E4-38B1-4362-BB60-35B140A72A40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" name="Picture 5" descr="HD PPT - Background-Logo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63080"/>
            <a:ext cx="822960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oposal of Broadcast Side Architecture for GINGA Servic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4800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524"/>
              </a:spcBef>
              <a:buClr>
                <a:srgbClr val="ff9900"/>
              </a:buClr>
              <a:buSzPct val="75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ation Information Service (SIS) carries identifier of GINGA service availabil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524"/>
              </a:spcBef>
              <a:buClr>
                <a:srgbClr val="ff9900"/>
              </a:buClr>
              <a:buSzPct val="75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 Information Guide (SIG) identifies the details of the GINGA service for rendering on receiv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524"/>
              </a:spcBef>
              <a:buClr>
                <a:srgbClr val="ff9900"/>
              </a:buClr>
              <a:buSzPct val="75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SAC interface to translation layer of DSM-CC Serv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1" name="Object 4"/>
          <p:cNvGraphicFramePr/>
          <p:nvPr/>
        </p:nvGraphicFramePr>
        <p:xfrm>
          <a:off x="1143000" y="849240"/>
          <a:ext cx="7162920" cy="379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849240"/>
                    <a:ext cx="7162920" cy="37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63080"/>
            <a:ext cx="822960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oposal of Receiver Side Architecture for GINGA Servic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464832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37"/>
              </a:spcBef>
              <a:buClr>
                <a:srgbClr val="ff9900"/>
              </a:buClr>
              <a:buSzPct val="75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D Radio™ decoder manages reception of various data objec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37"/>
              </a:spcBef>
              <a:buClr>
                <a:srgbClr val="ff9900"/>
              </a:buClr>
              <a:buSzPct val="75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INGA application runs on host microprocessor to interface data object to displa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37"/>
              </a:spcBef>
              <a:buClr>
                <a:srgbClr val="ff9900"/>
              </a:buClr>
              <a:buSzPct val="75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adio Service Processor (RSP) accesses relevant transport protocols to identify GINGA servi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6" name="Object 6"/>
          <p:cNvGraphicFramePr/>
          <p:nvPr/>
        </p:nvGraphicFramePr>
        <p:xfrm>
          <a:off x="1066680" y="914400"/>
          <a:ext cx="6782040" cy="359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914400"/>
                    <a:ext cx="6782040" cy="35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7T19:25:16Z</dcterms:created>
  <dc:creator>Detweiler, Jeff</dc:creator>
  <dc:description/>
  <dc:language>en-US</dc:language>
  <cp:lastModifiedBy>Rafael Leal da Silva</cp:lastModifiedBy>
  <dcterms:modified xsi:type="dcterms:W3CDTF">2013-03-08T14:37:55Z</dcterms:modified>
  <cp:revision>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Google.Documents.DocumentId">
    <vt:lpwstr>1fhNWTeX0x1jltHSioH9jxsbhABX-eFxEXphIEyfCwIk</vt:lpwstr>
  </property>
  <property fmtid="{D5CDD505-2E9C-101B-9397-08002B2CF9AE}" pid="3" name="Google.Documents.MergeIncapabilityFlags">
    <vt:r8>0</vt:r8>
  </property>
  <property fmtid="{D5CDD505-2E9C-101B-9397-08002B2CF9AE}" pid="4" name="Google.Documents.PluginVersion">
    <vt:lpwstr>2.0.2662.553</vt:lpwstr>
  </property>
  <property fmtid="{D5CDD505-2E9C-101B-9397-08002B2CF9AE}" pid="5" name="Google.Documents.RevisionId">
    <vt:lpwstr>05762456327685541730</vt:lpwstr>
  </property>
  <property fmtid="{D5CDD505-2E9C-101B-9397-08002B2CF9AE}" pid="6" name="Google.Documents.Tracking">
    <vt:lpwstr>true</vt:lpwstr>
  </property>
</Properties>
</file>