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7994-F5F9-4785-B947-67A43806BBA7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55CB-14E7-4B6F-88E0-D764BB6A67B6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6EDC-C2D0-469B-B21D-DD308BF94043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44EB-887E-455B-A63F-E72C59836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822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54360"/>
            <a:ext cx="822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71D4-3422-4DF1-A6BE-BB8C19AB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5436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5436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2FCC-FB8D-4856-989B-38881867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5220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5220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5436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5436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5436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6C2F-D1CC-4AE6-B55A-C334F229C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5A79-4006-4BE0-9F84-FB933C82A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95220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E613-E780-4235-ABB5-62FE0F46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9366-2849-400E-A540-A9A0953A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BAF9-DDBD-44B9-8930-887DE1AA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2F58-DF2E-446B-A689-75AC3E48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3440"/>
            <a:ext cx="822960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E0C6-0652-424A-8470-99145AD1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5436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F837-B41C-4002-9DC4-AE1BE26D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5220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1BFA-7E5D-4832-B4B7-13714EFA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5436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1B3B-5828-44C9-88F6-30142403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54360"/>
            <a:ext cx="822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BB5A-9051-4D78-A38C-E2743D1A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822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54360"/>
            <a:ext cx="822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7D50-9C11-4086-868D-968BBD4F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5436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5436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1B78-B784-4442-A5FB-D24530CB6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95220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95220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5436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5436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54360"/>
            <a:ext cx="264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652C-BF96-4DE1-9786-DEAFA3DB5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94A5-1EA7-409A-B0B2-4ACC99D9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A0AD-2E1F-4C3E-A90F-7EC2271E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FAD2-292D-42B6-85C6-91BF40E4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63440"/>
            <a:ext cx="822960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A7AB-82EE-4175-A1D0-497C6B76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5436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0BBA-AE8B-4155-A6D5-70C25779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5436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4CD8-DE5B-43B4-9819-8F32B45C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52200"/>
            <a:ext cx="40158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54360"/>
            <a:ext cx="8229600" cy="24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D1B0-F0F5-4EA5-B559-2B75EB44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5220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0000"/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99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621C-0008-4A1B-87B9-50CE30FA49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D0C6-1117-43D1-8D42-D028A8A6DF21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Picture 5" descr="HD PPT - Background-Logo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63080"/>
            <a:ext cx="822960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posal of Broadcast Side Architecture for GINGA Servic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4800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524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tion Information Service (SIS) carries identifier of GINGA service availabil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524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Information Guide (SIG) identifies the details of the GINGA service for rendering on recei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524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SAC interface to translation layer of DSM-CC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1" name="Object 4"/>
          <p:cNvGraphicFramePr/>
          <p:nvPr/>
        </p:nvGraphicFramePr>
        <p:xfrm>
          <a:off x="1143000" y="849240"/>
          <a:ext cx="7162920" cy="379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849240"/>
                    <a:ext cx="7162920" cy="37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63080"/>
            <a:ext cx="822960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posal of Receiver Side Architecture for GINGA Servic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464832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37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D Radio™ decoder manages reception of various data objec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37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NGA application runs on host microprocessor to interface data object to displ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37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adio Service Processor (RSP) accesses relevant transport protocols to identify GINGA serv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6" name="Object 6"/>
          <p:cNvGraphicFramePr/>
          <p:nvPr/>
        </p:nvGraphicFramePr>
        <p:xfrm>
          <a:off x="1066680" y="914400"/>
          <a:ext cx="6782040" cy="35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914400"/>
                    <a:ext cx="678204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7T19:25:16Z</dcterms:created>
  <dc:creator>Detweiler, Jeff</dc:creator>
  <dc:description/>
  <dc:language>en-US</dc:language>
  <cp:lastModifiedBy>Rafael Leal da Silva</cp:lastModifiedBy>
  <dcterms:modified xsi:type="dcterms:W3CDTF">2013-03-08T14:37:55Z</dcterms:modified>
  <cp:revision>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Google.Documents.DocumentId">
    <vt:lpwstr>1fhNWTeX0x1jltHSioH9jxsbhABX-eFxEXphIEyfCwIk</vt:lpwstr>
  </property>
  <property fmtid="{D5CDD505-2E9C-101B-9397-08002B2CF9AE}" pid="3" name="Google.Documents.MergeIncapabilityFlags">
    <vt:r8>0</vt:r8>
  </property>
  <property fmtid="{D5CDD505-2E9C-101B-9397-08002B2CF9AE}" pid="4" name="Google.Documents.PluginVersion">
    <vt:lpwstr>2.0.2662.553</vt:lpwstr>
  </property>
  <property fmtid="{D5CDD505-2E9C-101B-9397-08002B2CF9AE}" pid="5" name="Google.Documents.RevisionId">
    <vt:lpwstr>05762456327685541730</vt:lpwstr>
  </property>
  <property fmtid="{D5CDD505-2E9C-101B-9397-08002B2CF9AE}" pid="6" name="Google.Documents.Tracking">
    <vt:lpwstr>true</vt:lpwstr>
  </property>
</Properties>
</file>