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A11BCE7-3D89-4192-A3A6-F9C31262943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B25D4CE-4EB2-40FE-B977-D79554315BD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73BF6-FFA9-4E7C-BE7D-9D6392B6D3A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5614023-1CF9-416E-8E32-1E97B02D31D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59C1B-2D8B-4391-ADFF-0AB3E2F7CF9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6BF7873-E15A-4C9A-9E7A-A67653001F8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779E7-F484-480B-B441-2BA5916CDA5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9685733-8DEE-4BD1-9DA4-142E4271BEE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5D417-EB61-4CC7-B1FA-FF078CA5CC8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B4CB957-E212-4D59-9ADB-6E18BCE0E4B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94218-0F7D-4A72-8356-D44D1CB321B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DD915F9-A318-42DB-A92A-EC84E9C338F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11CC8-03E6-4C0C-9952-49F6B12BBD9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DAF6269-1A37-4172-94E3-DCA1F523429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BBA83-737B-40E5-AEB3-11B2F2D368C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AF3D037-9483-4F36-85FB-BB6EAE58018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730C0-F93D-4538-90E3-782E3F0A8F0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B25C48C-763E-4388-877D-7432E094063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501FC-7325-4759-AAA0-A01F24F47A2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F7381FE-FC36-4B39-B96B-92F85663A23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7BDD0-2BA2-4A6F-B71B-9E6B1C3ADC8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9596432-3FDD-478C-AF46-9CE001EF379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B7B0D-FBF7-43B9-AE6B-D097F28B1EE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9008DB3-E245-458C-A4A5-712B240EB41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3109D-EAC1-4FE0-9927-6144070B184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52460A3-E0F6-492F-84DF-59EA01B72AE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55EBB-CC86-40FE-BE50-C312A1AA996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A518284-1A00-4A75-A27A-75081646B75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138B8-9E0C-4282-BD99-EE9632B805C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E78E0C9-C2C5-4789-9169-998C5C85FBC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5AB95-81A6-4A56-B80B-80108E42379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FE26-DFB8-4654-9C5A-C16E446D1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6C93-40DC-4512-B6EA-54BFC803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D332-56B6-43FC-9498-DA18F45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115E-745C-4BAD-A238-DF565B9591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B298-8DDC-457E-A3F9-35D5F9F7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A9C1-9273-4FB9-95A5-191588DD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9101-D3DD-4811-8E42-971616FB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CC9C-7AD1-4F6D-A435-9F436E59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C84D-341D-4851-B3FF-B6FF8203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02A4-7F2E-449C-ABD4-282ED44C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69D5-79DD-47AA-8198-F631CFD4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E44E-EEDD-47B7-95A9-B0BFAFC5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0C3AD8-66B7-4238-A2D6-F5EDA720CFE9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928880" y="2214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28800" y="164304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- Debate de questões relativas à produção de equipamentos para rádio digital, com o objetivo de apresentar um relatório indicando as necessidades para viabilizar a produção nacional desses equipamentos, os prazos envolvidos e uma estimativa dos recursos necessári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D09F8-BCCD-4A66-904B-B96BF8649B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 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5706F-DC15-490D-8E0B-742786C95E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928800" y="1643040"/>
            <a:ext cx="7358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nálise e acompanhamento dos testes técnicos – Estudo dos testes técnicos realizados – e que porventura venham ainda a ser realizados – pelo MC e por outras entidades e interpretação dos seus result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2684D-BEA7-4C62-8C36-EB2AAE72C2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28800" y="164304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ª Reunião: Apresentação dos trabalhos até o presente, criação das comissões temáticas e informe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2ª Reunião (manhã e tarde): 28/11/2012 – Debate com MC e Inmetro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36358-3CC2-426B-8464-461058D43C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8800" y="16430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3ª Reunião (manhã e tarde): 7/12/2012 – Debate com representantes dos padrões DRM e HD Ra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manhã): 13/12/2012 – Apresentação de estudo com diagnóstico sobre o rá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tarde): 13/12/2012 – Discussão sobre questões levantadas nos debat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0981C-1A52-46AD-91E4-07F6A8ABCE6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28800" y="1643040"/>
            <a:ext cx="735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os primeiros resultados das comissões técnic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e outros estudos realizados por pesquisado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Continuação dos debates sobre as questões levantadas pelas comissõ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uniões de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A5197-F84A-4BE9-A4F7-73547010FDD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riado pela Portaria nº 365/12 para “assessorar o Ministro de Estado das Comunicações na implantação do Rádio Digital no Brasil”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tegrado por 19 conselheiros, sendo 7 representantes de órgãos/entidades públicos, 2 parlamentares, 7 entidades representativas do setor de radiodifusão; e 3 do setor indust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onselho Consultivo do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5593C-9013-46FF-A4C3-268FE3F4F4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168588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s e aplicativos a serem agregados ao áudio transmit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para a produção de equipament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Gestão do espec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ransmissão simultânea dos sinais analógico e digital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colha do padrão tecnológico de rádio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Questões a serem discut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4B307-85E0-4973-9C18-E55CC9C7BE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dital de 13 de junho de 2011 convidou sistemas de rádio digital a se candidatarem a testes no Brasi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ois sistemas se apresentaram: DRM e HD Rad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Já haviam sido realizados testes anteriores, aos quais se somaram novos testes com os dois siste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hamamento público para escolha do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D1A22-E823-418A-8097-A79A518E062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9EC9D-F62D-460C-8C93-2B6FB34DE2B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785880" y="1643040"/>
          <a:ext cx="759600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643040"/>
                    <a:ext cx="759600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63802-0C32-4D44-91D1-2F7EA40B5BE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857160" y="1928880"/>
          <a:ext cx="759636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928880"/>
                    <a:ext cx="75963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93210-02F5-4A53-95D0-84C6AE8282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28800" y="1714680"/>
          <a:ext cx="7572240" cy="2616120"/>
        </p:xfrm>
        <a:graphic>
          <a:graphicData uri="http://schemas.openxmlformats.org/drawingml/2006/table">
            <a:tbl>
              <a:tblPr/>
              <a:tblGrid>
                <a:gridCol w="1355760"/>
                <a:gridCol w="1707840"/>
                <a:gridCol w="2254320"/>
                <a:gridCol w="2254320"/>
              </a:tblGrid>
              <a:tr h="19044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M+ (baixa potênci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- compa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B76AE-3703-482B-A0B1-C55DB39161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28800" y="1643040"/>
          <a:ext cx="7500960" cy="2928960"/>
        </p:xfrm>
        <a:graphic>
          <a:graphicData uri="http://schemas.openxmlformats.org/drawingml/2006/table">
            <a:tbl>
              <a:tblPr/>
              <a:tblGrid>
                <a:gridCol w="1403280"/>
                <a:gridCol w="2031840"/>
                <a:gridCol w="2033640"/>
                <a:gridCol w="2032200"/>
              </a:tblGrid>
              <a:tr h="555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da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o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/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M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/Mar 2010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2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tia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0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/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Jun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istematizados pelo Inme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solidam as medições de campo dos testes realizados, quando válidas tecnicamente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 serem disponibilizados no site do M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latórios dos te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C5FE8-6185-4B6B-8664-98BEB34192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octavio.pieranti</cp:lastModifiedBy>
  <cp:lastPrinted>2012-07-19T13:46:11Z</cp:lastPrinted>
  <dcterms:modified xsi:type="dcterms:W3CDTF">2012-10-23T16:29:51Z</dcterms:modified>
  <cp:revision>183</cp:revision>
  <dc:subject/>
  <dc:title>Slide 1</dc:title>
</cp:coreProperties>
</file>