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5145088"/>
  <p:notesSz cx="68072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07240" cy="9906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906120"/>
              <a:gd name="textAreaBottom" fmla="*/ 9905760 h 9906120"/>
            </a:gdLst>
            <a:ahLst/>
            <a:rect l="textAreaLeft" t="textAreaTop" r="textAreaRight" b="textAreaBottom"/>
            <a:pathLst>
              <a:path w="21600" h="31433">
                <a:moveTo>
                  <a:pt x="5" y="0"/>
                </a:moveTo>
                <a:arcTo wR="5" hR="5" stAng="16200000" swAng="-5400000"/>
                <a:lnTo>
                  <a:pt x="0" y="31428"/>
                </a:lnTo>
                <a:arcTo wR="5" hR="5" stAng="10800000" swAng="-5400000"/>
                <a:lnTo>
                  <a:pt x="21595" y="314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07240" cy="9906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906120"/>
              <a:gd name="textAreaBottom" fmla="*/ 9905760 h 9906120"/>
            </a:gdLst>
            <a:ahLst/>
            <a:rect l="textAreaLeft" t="textAreaTop" r="textAreaRight" b="textAreaBottom"/>
            <a:pathLst>
              <a:path w="21600" h="31433">
                <a:moveTo>
                  <a:pt x="5" y="0"/>
                </a:moveTo>
                <a:arcTo wR="5" hR="5" stAng="16200000" swAng="-5400000"/>
                <a:lnTo>
                  <a:pt x="0" y="31428"/>
                </a:lnTo>
                <a:arcTo wR="5" hR="5" stAng="10800000" swAng="-5400000"/>
                <a:lnTo>
                  <a:pt x="21595" y="314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07240" cy="9906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906120"/>
              <a:gd name="textAreaBottom" fmla="*/ 9905760 h 9906120"/>
            </a:gdLst>
            <a:ahLst/>
            <a:rect l="textAreaLeft" t="textAreaTop" r="textAreaRight" b="textAreaBottom"/>
            <a:pathLst>
              <a:path w="21600" h="31433">
                <a:moveTo>
                  <a:pt x="5" y="0"/>
                </a:moveTo>
                <a:arcTo wR="5" hR="5" stAng="16200000" swAng="-5400000"/>
                <a:lnTo>
                  <a:pt x="0" y="31428"/>
                </a:lnTo>
                <a:arcTo wR="5" hR="5" stAng="10800000" swAng="-5400000"/>
                <a:lnTo>
                  <a:pt x="21595" y="314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854520" y="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03320" y="743040"/>
            <a:ext cx="6594480" cy="371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79320" y="4706640"/>
            <a:ext cx="5440320" cy="4452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941076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DFB5713B-264C-4AEA-A9ED-4C150AC8A9B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7B223D14-B200-4B8F-BD79-CAC425D0AE09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B42B2-0559-4F98-8741-57D385E5B0B6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A391D2E2-A409-4CA5-996F-CFD7747525A5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0625C-A479-4879-A361-D121FAB8AC56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F2F42551-D7F0-41E0-9F8E-4AD549E1B32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8389D-5013-4832-8690-AD6C3DD56886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2C62A234-6D5D-4F95-A5AC-4EB0539EC372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EA7B7-BB1F-471E-BDA0-7E6AFD7C96B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D72DDCF2-D411-4A9D-B3A8-7B8409739771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2CBA19-AB1F-4107-A3D7-22D44E02EAE9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24D6E4EF-3325-4915-8B90-A301E004BB2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572FB1-F2AE-4FDD-8816-17E0175CBDB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9AFEDD8B-62C8-484F-8CF7-E4662C7C75D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8A4DFF-7480-4D68-A524-669241FC1950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4C118E96-2796-4744-9326-6492A9CE2217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76BB5-6203-4F14-81AC-CC4FF7A2F4CF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C19C5EFF-97BF-4E5C-8ADF-CB5496F8F151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195DB-24D7-4E53-998F-2B0D95ADD406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96A960AF-52D1-40CB-879B-25F84EDD698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4D703-8CF4-48DC-B7C7-C13DDCE1D3C1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6314CFB6-618F-4703-ACF5-8F3E8414BBB9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766E2A-14C7-4911-B237-F301233AE756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F3662CE6-66AC-43DD-A56B-00DCBFE4BD3A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B35948-4C55-4683-9B38-AD643BD2411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FCC45D2D-AEC9-4508-862B-3C9D0BAA634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5C9A8-25F7-4418-AFAB-DBC256F3D71A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3B6856AC-DFDA-4FFC-8B89-538C839B1F6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45C63-735C-40B6-82EB-D904620CA368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01704FC4-6C60-436A-BC43-22C3FFF53517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87A63-B669-4AF2-AFE0-34FB8F5F85E0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5D9D6-735D-4602-95FD-6BC46CF9F4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41172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7C14F-D8F6-4198-9056-A61BCA17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31A9C-C299-47B4-9455-3FCACF32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20024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20024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411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411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411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9883E-E257-4845-958D-2718419F22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200240"/>
            <a:ext cx="822492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24B14-440A-454A-AE81-33FB1D6A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82249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E6DFF-D219-41D5-BC79-E84C531E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7873A-468B-470A-BE7F-A9A78FE3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EA22F-5419-470B-AE75-E4033E835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-8244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90C82-AA64-4EFE-842E-81812B4A0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ACCDF-721D-4F9A-8BD1-A1F7AA25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22441-66AB-4403-B301-32353F1D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41172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0D168-36C1-4870-BD0F-8A12A45C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00240"/>
            <a:ext cx="82249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18160"/>
            <a:ext cx="21286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17/07/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47196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4718160"/>
            <a:ext cx="2129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3935E8A-A8A3-4647-A2B9-B876B4A9CF63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928880" y="22147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1e9d1e"/>
                </a:solidFill>
                <a:latin typeface="Arial"/>
                <a:ea typeface="Arial"/>
              </a:rPr>
              <a:t>Conselho Consultivo de Rádio Dig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928800" y="1643040"/>
            <a:ext cx="73580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Política industrial - Debate de questões relativas à produção de equipamentos para rádio digital, com o objetivo de apresentar um relatório indicando as necessidades para viabilizar a produção nacional desses equipamentos, os prazos envolvidos e uma estimativa dos recursos necessári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900000" y="11318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Proposta de Comissões Técnicas no CCRD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BC145-2345-4683-8534-83651CC7F6C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928800" y="1643040"/>
            <a:ext cx="7358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Inovação tecnológica – Mapeamento dos serviços, aplicativos e avanços recentes em ambos os sistemas, de projetos e iniciativas acadêmicas e das modificações necessárias para adequação do sistema às peculiaridades d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900000" y="11318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Proposta de Comissões Técnicas no CCRD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FA381-2B3A-4B8E-BA04-53E726D1E69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928800" y="1643040"/>
            <a:ext cx="73580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Análise e acompanhamento dos testes técnicos – Estudo dos testes técnicos realizados – e que porventura venham ainda a ser realizados – pelo MC e por outras entidades e interpretação dos seus resultad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900000" y="11318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Proposta de Comissões Técnicas no CCRD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03013-A7E6-428E-BA91-AF53CC83F85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928800" y="1643040"/>
            <a:ext cx="7358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1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ª Reunião: Apresentação dos trabalhos até o presente, criação das comissões temáticas e informe sobre os relatórios dos test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2ª Reunião (manhã e tarde): 28/11/2012 – Debate com MC e Inmetro sobre os relatórios dos test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900000" y="1131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Cronograma proposto para 2012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25653-7EEF-4086-8F4A-D9CF875F553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928800" y="1643040"/>
            <a:ext cx="7358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3ª Reunião (manhã e tarde): 7/12/2012 – Debate com representantes dos padrões DRM e HD Radio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4ª Reunião (manhã): 13/12/2012 – Apresentação de estudo com diagnóstico sobre o rádio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4ª Reunião (tarde): 13/12/2012 – Discussão sobre questões levantadas nos debates anterior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900000" y="1131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Cronograma proposto para 2012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7C641-7D1F-4D73-A4BC-4DFECE4C24E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928800" y="1643040"/>
            <a:ext cx="7358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Apresentação dos primeiros resultados das comissões técnica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Apresentação de outros estudos realizados por pesquisadores; 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Continuação dos debates sobre as questões levantadas pelas comissões técnic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900000" y="1131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Reuniões de 20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8B53D-552F-4D09-843A-026D58058C9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900000" y="1685880"/>
            <a:ext cx="73580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Criado pela Portaria nº 365/12 para “assessorar o Ministro de Estado das Comunicações na implantação do Rádio Digital no Brasil”;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Integrado por 19 conselheiros, sendo 7 representantes de órgãos/entidades públicos, 2 parlamentares, 7 entidades representativas do setor de radiodifusão; e 3 do setor industr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900000" y="1131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Conselho Consultivo do Rádio Dig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C2894-F072-4867-9BD3-37CF0B53DA4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900000" y="1685880"/>
            <a:ext cx="73580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Serviços e aplicativos a serem agregados ao áudio transmitid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Política industrial para a produção de equipamento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Gestão do espectr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Transmissão simultânea dos sinais analógico e digital;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Escolha do padrão tecnológico de rádio digi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900000" y="1131840"/>
            <a:ext cx="61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Questões a serem discuti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47CA9-DB59-48B3-8AB8-D0635A12601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00000" y="1685880"/>
            <a:ext cx="73580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Edital de 13 de junho de 2011 convidou sistemas de rádio digital a se candidatarem a testes no Brasi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Dois sistemas se apresentaram: DRM e HD Radi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Já haviam sido realizados testes anteriores, aos quais se somaram novos testes com os dois sistem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900000" y="1131840"/>
            <a:ext cx="61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Chamamento público para escolha do sist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94B58-EC35-4514-9110-FA5D084A83B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00000" y="1131840"/>
            <a:ext cx="61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Testes realizados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2530D-A48A-4AF0-877F-6BFFAF2DA87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Object 2"/>
          <p:cNvGraphicFramePr/>
          <p:nvPr/>
        </p:nvGraphicFramePr>
        <p:xfrm>
          <a:off x="785880" y="1643040"/>
          <a:ext cx="7596000" cy="309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5880" y="1643040"/>
                    <a:ext cx="7596000" cy="30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900000" y="1131840"/>
            <a:ext cx="61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Testes realizados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FC016-2801-47C2-B43A-E9A1CC9B06B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857160" y="1928880"/>
          <a:ext cx="7596360" cy="209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7160" y="1928880"/>
                    <a:ext cx="759636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900000" y="1131840"/>
            <a:ext cx="61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Testes realizado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B7E50-CFAA-4E2D-991F-A98B53FFD82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28800" y="1714680"/>
          <a:ext cx="7572240" cy="2616120"/>
        </p:xfrm>
        <a:graphic>
          <a:graphicData uri="http://schemas.openxmlformats.org/drawingml/2006/table">
            <a:tbl>
              <a:tblPr/>
              <a:tblGrid>
                <a:gridCol w="1355760"/>
                <a:gridCol w="1707840"/>
                <a:gridCol w="2254320"/>
                <a:gridCol w="2254320"/>
              </a:tblGrid>
              <a:tr h="190440">
                <a:tc row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sília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ádio Comunitária do Recanto das Ema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al Analógic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/Ju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M+ (baixa potênci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 rowSpan="4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Paul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BN A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al Analógic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/Ju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D A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800">
                <a:tc row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Paulo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ltura F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al Analógic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D F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900000" y="1131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Testes realizados - compara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178FD-7B35-4261-B1E1-93FCF770292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28800" y="1643040"/>
          <a:ext cx="7500960" cy="2928960"/>
        </p:xfrm>
        <a:graphic>
          <a:graphicData uri="http://schemas.openxmlformats.org/drawingml/2006/table">
            <a:tbl>
              <a:tblPr/>
              <a:tblGrid>
                <a:gridCol w="1403280"/>
                <a:gridCol w="2031840"/>
                <a:gridCol w="2033640"/>
                <a:gridCol w="2032200"/>
              </a:tblGrid>
              <a:tr h="55548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lidad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issor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stema DR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stema HD Radi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Paul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BN A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/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/Jul 2012                   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o Horizonte*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FM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/Mar 2010               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Maio 2012                 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o Horizonte*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atia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Maio 2010         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/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sília*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ádio Comunitária do Recanto das Ema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/Jul 2012                       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Jun 2012                   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928800" y="1643040"/>
            <a:ext cx="7358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Sistematizados pelo Inmetr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Consolidam as medições de campo dos testes realizados, quando válidas tecnicamente;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A serem disponibilizados no site do M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900000" y="1131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Relatórios dos tes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02ACF-5536-4678-B207-AF6844888DA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8:00:26Z</dcterms:created>
  <dc:creator>pericles.teodoro</dc:creator>
  <dc:description/>
  <dc:language>en-US</dc:language>
  <cp:lastModifiedBy>octavio.pieranti</cp:lastModifiedBy>
  <cp:lastPrinted>2012-07-19T13:46:11Z</cp:lastPrinted>
  <dcterms:modified xsi:type="dcterms:W3CDTF">2012-10-23T16:29:51Z</dcterms:modified>
  <cp:revision>183</cp:revision>
  <dc:subject/>
  <dc:title>Slide 1</dc:title>
</cp:coreProperties>
</file>